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2C97-8476-42FB-9C77-CB6CD442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1CE-59BB-4BA0-BF67-40DACF60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3BAF-FACC-416A-907D-EEFCBDF0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2B7A-473D-4273-B88B-6456037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41C9-59B6-40ED-AE67-05B57076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674B-32F4-4D8A-918E-F5BE43F1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153E-E9AB-4763-BF3C-6C1E0A91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68E4-53E1-4676-B6EF-888905BF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3C71-1096-41DF-913C-065F0F1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5D3-50DA-4364-83DD-99484A7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DEF1-D3CB-4857-9736-C0664DE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D1FF-115A-4FBC-896C-B3FE2738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D7E0-1119-4408-B182-6CF6CE1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2047-AE5F-4F48-B090-650ACD0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925-C375-4863-8974-E88D14F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E2F-2D98-4480-B76A-41BE7A4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7763-2E31-40C5-A713-0F8499B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3C7-9E6A-4A2B-94EA-94719CBD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510A-B4EC-4A2D-AD2E-9E50A4C5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0627-27EF-4E76-B79F-C184649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4AC6-BDE7-4F5C-B673-E01081E3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1A93-C6DD-4B11-988E-162C7FD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927F-FF0F-4480-A51F-63FC945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F97C-D9A2-47C7-8612-B17FF0B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22CF-9F55-492F-B7F2-34FFC5F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7A2D-5744-48A1-9E87-F9B2D01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A0A-0F76-4BAB-95EE-EB9024CA3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AB7F-DA2E-467E-9801-7EC58D29B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70-1990: Some regulations were eased and others were modifi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ggers Rail Act of 1980 gave railroads more flexibility in competing for traf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s against commodity options trading were lifted in 198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came under increased scrutin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fees were instituted for USDA grading servi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90-2010: New challenges arose for marketing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ood safety problems ar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for organic and locally grown foods expan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rns about concentration re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datory price reporting was introduced for livesto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and cooperatives were question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uture of food and agricultural marketing program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ght federal budgets will constrain progr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communication technology will continue to impact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duction, processing, and distribution technologies will continue to evol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ing chronic and acute food borne disease will become more challeng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ation will be a continuing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hapter 3: A History of Government’s Role in the Food and Agricultural Marketing Syste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ard Heif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rodu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rograms have addressed failures in competition and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 fails when one or a few firms are able to distort prices to their advant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, grades and standards, and food safety regulations address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technology, tastes, and marketing practices require programs to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80-1900:  Regulation of competition beg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terstate Commerce Act of 1887 was Congress’ first exercise of its Constitutional authority to regulate commerce between the st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erman Antitrust Act of 1890 prohibit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combinations or coord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practices and exclusionary conduc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00-1920: Food safety programs were launched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eat Inspection Act of 1906 required inspection of meats entering interstate and foreign comme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ure Food and Drug Act of 1906 prohibited ingredients that substituted for food, concealed damage, or posed a health hazard. Labeling could not be false and dangerous ingredients had to be list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10-1920: USDA market news and grading services bega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 reporting began in 191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grade standards were developed over the next deca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ress passed three laws in 1916 calling for the development of grades and standard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ain Standard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tton Futur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andard Fruit and Vegetable Containers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20-1940: New programs protected &amp; empowered farmer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1 Packers and Stockyard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2 Capper-Volstead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 Perishable Agricultural Commoditie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6 Commodity Exchange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7 The Agricultural Marketing Agreements Act authorized marketing or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strengthened and expanded the use of federal grades and stand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30-1970: Food safety regulations were expand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lerances for poisonous substances were established and factory inspection author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tightened controls on chemicals in foods, limited pesticide residues, required makers of new additives to establish safety, and prohibited carcinoge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 labeling of consumer products for content, identity, and source was establish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-1980: Marketing programs evolved further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gricultural Marketing Act of 1946 reinvigorated marketing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orm milk pricing formulas were established nationwide in 196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armer-to-Consumer Direct Marketing Act was passed in 197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trading regulation moved from USDA to the CF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6T00:32:57Z</dcterms:modified>
  <cp:revision>41</cp:revision>
  <dc:subject/>
  <dc:title>U.S. Policies Affecting Food and Agricultural Marketing</dc:title>
</cp:coreProperties>
</file>